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85A-A415-41C3-A702-3380D773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903-E7F1-4004-9747-1B5B0DB1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364-0CBB-4817-9230-A5317164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E54-8207-4679-9DE2-49F5084B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393-C5D7-4595-AC4F-94A278BF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6FF-8C53-4E8C-AF7D-96B9629F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454-9C40-4C9D-A6E2-172E154A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FBD-87C0-45D0-9788-D3FAEF66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F85-A26F-4F31-90AE-6CA034E8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1D5-06F5-451A-AD9A-5C762E6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FE4-0417-4B1F-A6CE-CE9514D0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CE9-62F4-4B0D-A8DF-198E6790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A5A1-F882-4448-BCC3-2856B7608C5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dding and Subtracting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y Graeme Hench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50920" y="549360"/>
            <a:ext cx="288108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97164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169236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411280" y="549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0920" y="549360"/>
            <a:ext cx="720720" cy="143964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971640" y="549360"/>
            <a:ext cx="720720" cy="7189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50920" y="126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1"/>
              <p:cNvSpPr txBox="1"/>
              <p:nvPr/>
            </p:nvSpPr>
            <p:spPr>
              <a:xfrm>
                <a:off x="6877080" y="404640"/>
                <a:ext cx="125712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12"/>
          <p:cNvSpPr/>
          <p:nvPr/>
        </p:nvSpPr>
        <p:spPr>
          <a:xfrm>
            <a:off x="971640" y="4869000"/>
            <a:ext cx="58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http://hench-maths.wikispac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0.62014 -3.7037E-006 E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dding Mixed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parate the fraction and the whole number sections, add them separately and recombine at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684360" y="2924280"/>
                <a:ext cx="4093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6300720" y="2959200"/>
                <a:ext cx="432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5076720" y="292428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7"/>
              <p:cNvSpPr txBox="1"/>
              <p:nvPr/>
            </p:nvSpPr>
            <p:spPr>
              <a:xfrm>
                <a:off x="3708360" y="292428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8"/>
              <p:cNvSpPr txBox="1"/>
              <p:nvPr/>
            </p:nvSpPr>
            <p:spPr>
              <a:xfrm>
                <a:off x="1403280" y="2997360"/>
                <a:ext cx="5032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9"/>
              <p:cNvSpPr txBox="1"/>
              <p:nvPr/>
            </p:nvSpPr>
            <p:spPr>
              <a:xfrm>
                <a:off x="3733920" y="407340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1042920" y="2781360"/>
                <a:ext cx="362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2268360" y="2852640"/>
                <a:ext cx="281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1908000" y="2924280"/>
                <a:ext cx="41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3"/>
              <p:cNvSpPr txBox="1"/>
              <p:nvPr/>
            </p:nvSpPr>
            <p:spPr>
              <a:xfrm>
                <a:off x="4284720" y="3768840"/>
                <a:ext cx="4111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4"/>
              <p:cNvSpPr txBox="1"/>
              <p:nvPr/>
            </p:nvSpPr>
            <p:spPr>
              <a:xfrm>
                <a:off x="3276720" y="3984480"/>
                <a:ext cx="46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5"/>
              <p:cNvSpPr txBox="1"/>
              <p:nvPr/>
            </p:nvSpPr>
            <p:spPr>
              <a:xfrm>
                <a:off x="2700360" y="3068640"/>
                <a:ext cx="3506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6"/>
              <p:cNvSpPr txBox="1"/>
              <p:nvPr/>
            </p:nvSpPr>
            <p:spPr>
              <a:xfrm>
                <a:off x="2700360" y="4272120"/>
                <a:ext cx="3506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7"/>
              <p:cNvSpPr txBox="1"/>
              <p:nvPr/>
            </p:nvSpPr>
            <p:spPr>
              <a:xfrm>
                <a:off x="2700360" y="5445000"/>
                <a:ext cx="3506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3203640" y="5229360"/>
                <a:ext cx="463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9"/>
              <p:cNvSpPr txBox="1"/>
              <p:nvPr/>
            </p:nvSpPr>
            <p:spPr>
              <a:xfrm>
                <a:off x="3635280" y="4941720"/>
                <a:ext cx="4111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0"/>
              <p:cNvSpPr txBox="1"/>
              <p:nvPr/>
            </p:nvSpPr>
            <p:spPr>
              <a:xfrm>
                <a:off x="684360" y="2781360"/>
                <a:ext cx="4093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1"/>
              <p:cNvSpPr txBox="1"/>
              <p:nvPr/>
            </p:nvSpPr>
            <p:spPr>
              <a:xfrm>
                <a:off x="1403280" y="285444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2"/>
              <p:cNvSpPr txBox="1"/>
              <p:nvPr/>
            </p:nvSpPr>
            <p:spPr>
              <a:xfrm>
                <a:off x="1042920" y="2638440"/>
                <a:ext cx="362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3"/>
              <p:cNvSpPr txBox="1"/>
              <p:nvPr/>
            </p:nvSpPr>
            <p:spPr>
              <a:xfrm>
                <a:off x="2268360" y="2709720"/>
                <a:ext cx="281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4"/>
              <p:cNvSpPr txBox="1"/>
              <p:nvPr/>
            </p:nvSpPr>
            <p:spPr>
              <a:xfrm>
                <a:off x="1908000" y="2781360"/>
                <a:ext cx="41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00024 C 0.01129 0.06597 0.02275 0.1324 0.05695 0.15902 C 0.09115 0.18564 0.16893 0.18588 0.20556 0.15902 C 0.24219 0.13217 0.2592 0.06504 0.27639 -0.00209 E">
                                      <p:cBhvr>
                                        <p:cTn id="6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5.18519E-006 C 0.00591 0.05626 0.01181 0.11274 0.04028 0.13889 C 0.06876 0.16505 0.13317 0.16389 0.17084 0.15741 C 0.20851 0.15093 0.25018 0.12802 0.26667 0.10001 C 0.28317 0.072 0.27622 0.03033 0.26945 -0.01111 E">
                                      <p:cBhvr>
                                        <p:cTn id="67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3.7037E-007 C 0.03021 0.06922 0.0606 0.13866 0.10695 0.15556 C 0.1533 0.17246 0.23039 0.10116 0.27778 0.10185 C 0.32518 0.10255 0.35695 0.15371 0.39167 0.15926 C 0.42622 0.16482 0.4665 0.16273 0.48612 0.13519 C 0.50573 0.10764 0.50764 0.05093 0.50973 -0.00555 E">
                                      <p:cBhvr>
                                        <p:cTn id="676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046 C -0.00122 0.05486 -0.00156 0.10949 0.02135 0.1338 C 0.04427 0.1581 0.09062 0.14468 0.13663 0.14676 C 0.18264 0.14884 0.25469 0.15301 0.29774 0.14676 C 0.3408 0.14051 0.35955 0.10903 0.39496 0.10972 C 0.43038 0.11042 0.46441 0.14375 0.51024 0.15046 C 0.55607 0.15718 0.64132 0.17014 0.66996 0.15046 C 0.69861 0.13079 0.70885 0.04236 0.68246 0.03195 C 0.65607 0.02153 0.54357 0.09421 0.51163 0.0875 C 0.47969 0.08079 0.48524 0.03588 0.4908 -0.0088 E">
                                      <p:cBhvr>
                                        <p:cTn id="68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dding Fractions with common denomin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3203640" y="1413000"/>
                <a:ext cx="12700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Rectangle 4"/>
          <p:cNvSpPr/>
          <p:nvPr/>
        </p:nvSpPr>
        <p:spPr>
          <a:xfrm>
            <a:off x="250920" y="2708280"/>
            <a:ext cx="288108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2411280" y="2708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50920" y="414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572000" y="2708280"/>
            <a:ext cx="28814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572000" y="414972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50920" y="2708280"/>
            <a:ext cx="216036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572000" y="2708280"/>
            <a:ext cx="287964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97164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169236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50920" y="3429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529272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601200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673272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7"/>
              <p:cNvSpPr txBox="1"/>
              <p:nvPr/>
            </p:nvSpPr>
            <p:spPr>
              <a:xfrm>
                <a:off x="4572000" y="1557360"/>
                <a:ext cx="16794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AutoShape 18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-0.00162 C 0.01788 -0.00532 0.04843 -0.00856 0.05902 -0.00856 C 0.12656 -0.00856 0.19635 0.04787 0.19635 0.105 C 0.19635 0.07609 0.23125 0.04787 0.26406 0.04787 C 0.29878 0.04787 0.33159 0.07655 0.33159 0.105 C 0.33159 0.09043 0.34913 0.07609 0.36649 0.07609 C 0.38385 0.07609 0.40139 0.09019 0.40139 0.105 C 0.40139 0.09736 0.40989 0.09043 0.41875 0.09043 C 0.42743 0.09043 0.43611 0.09783 0.43611 0.105 C 0.43611 0.10106 0.44062 0.09736 0.44479 0.09736 C 0.44704 0.09736 0.45347 0.10106 0.45347 0.105 C 0.45347 0.10268 0.45573 0.10106 0.45798 0.10106 C 0.45798 0.10153 0.46267 0.10268 0.46267 0.105 C 0.46267 0.10384 0.46267 0.10268 0.46475 0.10268 C 0.46475 0.10338 0.46718 0.10384 0.46718 0.105 C 0.46718 0.1043 0.46718 0.10384 0.46718 0.10338 C 0.46927 0.10338 0.46927 0.10384 0.46927 0.1043 C 0.47152 0.1043 0.47152 0.10384 0.47152 0.10338 C 0.47413 0.10338 0.47413 0.10384 0.47413 0.1043 E">
                                      <p:cBhvr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dding Fractions with different denomin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68360" y="1628640"/>
            <a:ext cx="813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Probl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You can’t add fractions with different denominators without getting them </a:t>
            </a:r>
            <a:r>
              <a:rPr b="0" lang="en-AU" sz="2400" spc="-1" strike="noStrike">
                <a:solidFill>
                  <a:srgbClr val="c81e0c"/>
                </a:solidFill>
                <a:latin typeface="Comic Sans MS"/>
              </a:rPr>
              <a:t>ready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first. They will be </a:t>
            </a:r>
            <a:r>
              <a:rPr b="0" lang="en-AU" sz="2400" spc="-1" strike="noStrike">
                <a:solidFill>
                  <a:srgbClr val="c81e0c"/>
                </a:solidFill>
                <a:latin typeface="Comic Sans MS"/>
              </a:rPr>
              <a:t>ready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to add when they have common denomi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3789360"/>
            <a:ext cx="806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urn  fractions into equivalent fractions with a </a:t>
            </a:r>
            <a:r>
              <a:rPr b="0" lang="en-AU" sz="3600" spc="-1" strike="noStrike">
                <a:solidFill>
                  <a:srgbClr val="c81e0c"/>
                </a:solidFill>
                <a:latin typeface="Comic Sans MS"/>
              </a:rPr>
              <a:t>common denominator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hat is find the Lowest Common Multiple (LCM) of the two denomi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inding the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Lowest Common Denominat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931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lowest common multiple of two numbers is the lowest number in BOTH lists of mult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611280" y="4005360"/>
                <a:ext cx="11840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Picture 5" descr="j0282748"/>
          <p:cNvPicPr/>
          <p:nvPr/>
        </p:nvPicPr>
        <p:blipFill>
          <a:blip r:embed="rId1"/>
          <a:stretch/>
        </p:blipFill>
        <p:spPr>
          <a:xfrm>
            <a:off x="1692360" y="5445000"/>
            <a:ext cx="1218960" cy="1295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6"/>
          <p:cNvSpPr/>
          <p:nvPr/>
        </p:nvSpPr>
        <p:spPr>
          <a:xfrm>
            <a:off x="2556000" y="3716280"/>
            <a:ext cx="6192720" cy="2233800"/>
          </a:xfrm>
          <a:prstGeom prst="cloudCallout">
            <a:avLst>
              <a:gd name="adj1" fmla="val -44976"/>
              <a:gd name="adj2" fmla="val 46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Multiples of 2 are 2, 4, 6, 8, 10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Multiples of 3 are 3, 6, 9, 12,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is the lowest common multi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5940360" y="4637160"/>
            <a:ext cx="0" cy="360360"/>
          </a:xfrm>
          <a:prstGeom prst="line">
            <a:avLst/>
          </a:prstGeom>
          <a:ln w="57240">
            <a:solidFill>
              <a:srgbClr val="c81e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H="1" flipV="1">
            <a:off x="6156360" y="3651120"/>
            <a:ext cx="31680" cy="449280"/>
          </a:xfrm>
          <a:prstGeom prst="line">
            <a:avLst/>
          </a:prstGeom>
          <a:ln w="57240">
            <a:solidFill>
              <a:srgbClr val="c81e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inding the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Lowest Common Denominat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931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lowest common multiple of two numbers is the lowest number they will BOTH divide 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611280" y="4005360"/>
                <a:ext cx="11840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4" name="Picture 5" descr="j0282748"/>
          <p:cNvPicPr/>
          <p:nvPr/>
        </p:nvPicPr>
        <p:blipFill>
          <a:blip r:embed="rId1"/>
          <a:stretch/>
        </p:blipFill>
        <p:spPr>
          <a:xfrm>
            <a:off x="1692360" y="5445000"/>
            <a:ext cx="1218960" cy="12956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2556000" y="3716280"/>
            <a:ext cx="6192720" cy="2233800"/>
          </a:xfrm>
          <a:prstGeom prst="cloudCallout">
            <a:avLst>
              <a:gd name="adj1" fmla="val -44976"/>
              <a:gd name="adj2" fmla="val 46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2 divides into 2, 4, 6, 8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3 divides into 3, 6, 9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is the lowest number 2 and 3  both divide i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H="1" flipV="1">
            <a:off x="6156360" y="3651120"/>
            <a:ext cx="31680" cy="449280"/>
          </a:xfrm>
          <a:prstGeom prst="line">
            <a:avLst/>
          </a:prstGeom>
          <a:ln w="57240">
            <a:solidFill>
              <a:srgbClr val="c81e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084720" y="4637160"/>
            <a:ext cx="0" cy="360360"/>
          </a:xfrm>
          <a:prstGeom prst="line">
            <a:avLst/>
          </a:prstGeom>
          <a:ln w="57240">
            <a:solidFill>
              <a:srgbClr val="c81e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971640" y="1268280"/>
            <a:ext cx="2160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292720" y="1268280"/>
            <a:ext cx="21589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971640" y="1989000"/>
            <a:ext cx="2160360" cy="71928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292720" y="1268280"/>
            <a:ext cx="719280" cy="144000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780000" y="1413000"/>
            <a:ext cx="93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6732720" y="126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50920" y="299736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Lowest Common Multiple of 2 and 3 is 6  so turn all fractions into six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692360" y="126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411280" y="126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5292720" y="198900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2"/>
              <p:cNvSpPr txBox="1"/>
              <p:nvPr/>
            </p:nvSpPr>
            <p:spPr>
              <a:xfrm>
                <a:off x="250920" y="3645000"/>
                <a:ext cx="601164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13"/>
          <p:cNvSpPr/>
          <p:nvPr/>
        </p:nvSpPr>
        <p:spPr>
          <a:xfrm>
            <a:off x="6732720" y="4149720"/>
            <a:ext cx="21589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732720" y="4149720"/>
            <a:ext cx="2158920" cy="71928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6732720" y="4869000"/>
            <a:ext cx="143964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745164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8172360" y="4149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4500720" y="115920"/>
            <a:ext cx="4643280" cy="1009440"/>
          </a:xfrm>
          <a:prstGeom prst="cloudCallout">
            <a:avLst>
              <a:gd name="adj1" fmla="val -60361"/>
              <a:gd name="adj2" fmla="val -5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ou can’t add fractions with different denom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900000" y="5950080"/>
            <a:ext cx="2664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81e0c"/>
                </a:solidFill>
                <a:latin typeface="Arial"/>
              </a:rPr>
              <a:t>Special form of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H="1" flipV="1">
            <a:off x="1476360" y="5373360"/>
            <a:ext cx="71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 flipV="1">
            <a:off x="2771640" y="5373360"/>
            <a:ext cx="144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2"/>
              <p:cNvSpPr txBox="1"/>
              <p:nvPr/>
            </p:nvSpPr>
            <p:spPr>
              <a:xfrm>
                <a:off x="2268360" y="0"/>
                <a:ext cx="1644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AutoShape 23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50920" y="1989000"/>
            <a:ext cx="3600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572000" y="1989000"/>
            <a:ext cx="3600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1989000"/>
            <a:ext cx="3600360" cy="71928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0" y="1989000"/>
            <a:ext cx="1440000" cy="144000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529272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673272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745164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900000" y="4305240"/>
                <a:ext cx="2303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Line 10"/>
          <p:cNvSpPr/>
          <p:nvPr/>
        </p:nvSpPr>
        <p:spPr>
          <a:xfrm>
            <a:off x="97164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169236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241128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3132000" y="198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4572000" y="270828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3317760" y="90360"/>
                <a:ext cx="18003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Rectangle 16"/>
          <p:cNvSpPr/>
          <p:nvPr/>
        </p:nvSpPr>
        <p:spPr>
          <a:xfrm>
            <a:off x="4572000" y="4149720"/>
            <a:ext cx="3600360" cy="144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4572000" y="4869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572000" y="4149720"/>
            <a:ext cx="3600360" cy="71928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745164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4572000" y="4869000"/>
            <a:ext cx="2879640" cy="72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529272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601200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673272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395280" y="119700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west common denominator is 10 so make all fractions te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5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0920" y="1268280"/>
            <a:ext cx="28810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3"/>
              <p:cNvSpPr txBox="1"/>
              <p:nvPr/>
            </p:nvSpPr>
            <p:spPr>
              <a:xfrm>
                <a:off x="2987640" y="0"/>
                <a:ext cx="2263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Rectangle 4"/>
          <p:cNvSpPr/>
          <p:nvPr/>
        </p:nvSpPr>
        <p:spPr>
          <a:xfrm>
            <a:off x="4500720" y="1268280"/>
            <a:ext cx="287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50920" y="1268280"/>
            <a:ext cx="2881080" cy="71928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500720" y="1268280"/>
            <a:ext cx="72072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50920" y="270828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94036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66108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00000" y="3645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urn both fractions into twelf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97164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169236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2411280" y="126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4500720" y="19875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4500720" y="2708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6"/>
              <p:cNvSpPr txBox="1"/>
              <p:nvPr/>
            </p:nvSpPr>
            <p:spPr>
              <a:xfrm>
                <a:off x="324000" y="4508640"/>
                <a:ext cx="2825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7"/>
          <p:cNvSpPr/>
          <p:nvPr/>
        </p:nvSpPr>
        <p:spPr>
          <a:xfrm>
            <a:off x="4500720" y="4149720"/>
            <a:ext cx="287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4500720" y="4149720"/>
            <a:ext cx="720720" cy="216072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6661080" y="41497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4500720" y="4869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4500720" y="5589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4500720" y="5589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5219640" y="4149720"/>
            <a:ext cx="1440000" cy="1440000"/>
          </a:xfrm>
          <a:prstGeom prst="rect">
            <a:avLst/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4500720" y="4869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5940360" y="41497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6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124000" y="907920"/>
            <a:ext cx="2872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79280" y="892080"/>
            <a:ext cx="289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701640" y="836640"/>
                <a:ext cx="104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Picture 5" descr="j0282748"/>
          <p:cNvPicPr/>
          <p:nvPr/>
        </p:nvPicPr>
        <p:blipFill>
          <a:blip r:embed="rId1"/>
          <a:stretch/>
        </p:blipFill>
        <p:spPr>
          <a:xfrm>
            <a:off x="468360" y="450864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6"/>
          <p:cNvSpPr/>
          <p:nvPr/>
        </p:nvSpPr>
        <p:spPr>
          <a:xfrm>
            <a:off x="2771640" y="2781360"/>
            <a:ext cx="5400720" cy="1727280"/>
          </a:xfrm>
          <a:prstGeom prst="cloudCallout">
            <a:avLst>
              <a:gd name="adj1" fmla="val -72546"/>
              <a:gd name="adj2" fmla="val 47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is the lowest number BOTH 3 and 7 divide i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Hmmmmm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3059280" y="3645000"/>
            <a:ext cx="4033800" cy="1079280"/>
          </a:xfrm>
          <a:prstGeom prst="cloudCallout">
            <a:avLst>
              <a:gd name="adj1" fmla="val -89314"/>
              <a:gd name="adj2" fmla="val 460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It is 21. So that is  my common denom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2556000" y="765000"/>
                <a:ext cx="1871640" cy="11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9"/>
          <p:cNvSpPr/>
          <p:nvPr/>
        </p:nvSpPr>
        <p:spPr>
          <a:xfrm>
            <a:off x="3059280" y="2852640"/>
            <a:ext cx="3313080" cy="1871640"/>
          </a:xfrm>
          <a:prstGeom prst="cloudCallout">
            <a:avLst>
              <a:gd name="adj1" fmla="val -91351"/>
              <a:gd name="adj2" fmla="val 49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special form of 1 will change 7 to 21.  Hmmm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324000" y="2565360"/>
            <a:ext cx="2736720" cy="1152720"/>
          </a:xfrm>
          <a:prstGeom prst="cloudCallout">
            <a:avLst>
              <a:gd name="adj1" fmla="val -28421"/>
              <a:gd name="adj2" fmla="val 118458"/>
            </a:avLst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It is 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So I multiply 3/7 by 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1"/>
              <p:cNvSpPr txBox="1"/>
              <p:nvPr/>
            </p:nvSpPr>
            <p:spPr>
              <a:xfrm>
                <a:off x="162000" y="836640"/>
                <a:ext cx="585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AutoShape 12"/>
          <p:cNvSpPr/>
          <p:nvPr/>
        </p:nvSpPr>
        <p:spPr>
          <a:xfrm>
            <a:off x="3492360" y="2852640"/>
            <a:ext cx="3313080" cy="1871640"/>
          </a:xfrm>
          <a:prstGeom prst="cloudCallout">
            <a:avLst>
              <a:gd name="adj1" fmla="val -91351"/>
              <a:gd name="adj2" fmla="val 49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hat special form of 1 will change 3 to 21.  Hmmm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1042920" y="2708280"/>
            <a:ext cx="2737080" cy="1152360"/>
          </a:xfrm>
          <a:prstGeom prst="cloudCallout">
            <a:avLst>
              <a:gd name="adj1" fmla="val -42458"/>
              <a:gd name="adj2" fmla="val 100138"/>
            </a:avLst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It is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So I multiply 2/3 by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4"/>
              <p:cNvSpPr txBox="1"/>
              <p:nvPr/>
            </p:nvSpPr>
            <p:spPr>
              <a:xfrm>
                <a:off x="1835280" y="861840"/>
                <a:ext cx="61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AutoShape 15"/>
          <p:cNvSpPr/>
          <p:nvPr/>
        </p:nvSpPr>
        <p:spPr>
          <a:xfrm>
            <a:off x="2340000" y="4437000"/>
            <a:ext cx="5472000" cy="1079640"/>
          </a:xfrm>
          <a:prstGeom prst="cloudCallout">
            <a:avLst>
              <a:gd name="adj1" fmla="val -63694"/>
              <a:gd name="adj2" fmla="val -4115"/>
            </a:avLst>
          </a:prstGeom>
          <a:solidFill>
            <a:srgbClr val="f4fa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Now 3x3=9 and 2x7=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Now I know the new num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6"/>
              <p:cNvSpPr txBox="1"/>
              <p:nvPr/>
            </p:nvSpPr>
            <p:spPr>
              <a:xfrm>
                <a:off x="4427640" y="846000"/>
                <a:ext cx="17287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AutoShape 17"/>
          <p:cNvSpPr/>
          <p:nvPr/>
        </p:nvSpPr>
        <p:spPr>
          <a:xfrm>
            <a:off x="3024360" y="2276640"/>
            <a:ext cx="6119640" cy="1368360"/>
          </a:xfrm>
          <a:prstGeom prst="cloudCallout">
            <a:avLst>
              <a:gd name="adj1" fmla="val -48444"/>
              <a:gd name="adj2" fmla="val 169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Finally the fractions are READY to add. I just have to add the numerators 9+14=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8"/>
              <p:cNvSpPr txBox="1"/>
              <p:nvPr/>
            </p:nvSpPr>
            <p:spPr>
              <a:xfrm>
                <a:off x="6227640" y="831960"/>
                <a:ext cx="20163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AutoShape 19"/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10800" y="5703"/>
                </a:moveTo>
                <a:lnTo>
                  <a:pt x="13376" y="8315"/>
                </a:ln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lnTo>
                  <a:pt x="17763" y="12666"/>
                </a:lnTo>
                <a:lnTo>
                  <a:pt x="16109" y="12666"/>
                </a:lnTo>
                <a:lnTo>
                  <a:pt x="16109" y="19856"/>
                </a:lnTo>
                <a:lnTo>
                  <a:pt x="5491" y="19856"/>
                </a:lnTo>
                <a:lnTo>
                  <a:pt x="5491" y="12666"/>
                </a:lnTo>
                <a:lnTo>
                  <a:pt x="3837" y="12666"/>
                </a:lnTo>
                <a:close/>
              </a:path>
              <a:path fill="darkenLess" w="21600" h="25333">
                <a:moveTo>
                  <a:pt x="13376" y="8315"/>
                </a:moveTo>
                <a:lnTo>
                  <a:pt x="13376" y="6574"/>
                </a:lnTo>
                <a:lnTo>
                  <a:pt x="15152" y="6574"/>
                </a:lnTo>
                <a:lnTo>
                  <a:pt x="15152" y="10090"/>
                </a:lnTo>
                <a:close/>
              </a:path>
              <a:path fill="darkenLess" w="21600" h="25333">
                <a:moveTo>
                  <a:pt x="9877" y="16165"/>
                </a:moveTo>
                <a:lnTo>
                  <a:pt x="11723" y="16165"/>
                </a:lnTo>
                <a:lnTo>
                  <a:pt x="11723" y="19856"/>
                </a:lnTo>
                <a:lnTo>
                  <a:pt x="16109" y="19856"/>
                </a:lnTo>
                <a:lnTo>
                  <a:pt x="16109" y="12666"/>
                </a:lnTo>
                <a:lnTo>
                  <a:pt x="5491" y="12666"/>
                </a:lnTo>
                <a:lnTo>
                  <a:pt x="5491" y="19856"/>
                </a:lnTo>
                <a:lnTo>
                  <a:pt x="9877" y="198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0:07:24Z</dcterms:created>
  <dc:creator>LHCA</dc:creator>
  <dc:description/>
  <dc:language>en-US</dc:language>
  <cp:lastModifiedBy>lkeeler</cp:lastModifiedBy>
  <dcterms:modified xsi:type="dcterms:W3CDTF">2011-02-23T16:53:43Z</dcterms:modified>
  <cp:revision>1</cp:revision>
  <dc:subject/>
  <dc:title>Adding and Subtracting Fractions</dc:title>
</cp:coreProperties>
</file>